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E2C-8DAB-47A9-9546-AD54884C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D07-8815-423B-8DF1-0BC883DC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135-88ED-4530-AFC7-0D1940EC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A18-82AE-4C34-8E2A-0512EECD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7045-E0C9-45E2-AF85-289D0E40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64FF-68DE-4E57-A9B5-A00EA560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E385-EE33-4145-8F48-978E5DE5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58A1-B4CC-4116-9FF0-85FBAB12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2E92-F357-4843-8015-88978760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1E47-87C7-4120-A433-3523BF31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A53E-E04C-460D-80FE-7FC7C461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92B-5778-4EE6-80DA-EEB22C79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3041-04E2-41B7-8383-6797BC4B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D505-6B07-49E9-9B14-FCC09D73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F1D1-E52A-406F-8A2A-06FC82AA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715C-BB8D-473F-B509-2B318C0A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27D8-50B9-4D55-B642-01F5AE12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D69-7A09-42D5-BA21-35C1FA32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48A-4541-497D-A9FA-0367E9CE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C50-A199-4057-9DDC-428E45C6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D84-11A7-4BA4-83DA-655DAEDC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D13-1906-4347-BB54-866039C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157-923D-44AA-B46A-B44328B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798-7282-4896-9E3C-41FD0077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026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1027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1029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34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A024-C07E-491A-A3DA-05F331B6F7D4}" type="slidenum">
              <a:rPr b="0" lang="en-A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BF1F-1C24-40F2-937D-91A0E0876F47}" type="slidenum">
              <a:rPr b="0" lang="en-A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ebd189"/>
                </a:solidFill>
                <a:latin typeface="Arial"/>
              </a:rPr>
              <a:t>Job Analysi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2" name="Content Placeholder 6" descr="happy.jpg"/>
          <p:cNvPicPr/>
          <p:nvPr/>
        </p:nvPicPr>
        <p:blipFill>
          <a:blip r:embed="rId1"/>
          <a:stretch/>
        </p:blipFill>
        <p:spPr>
          <a:xfrm>
            <a:off x="3575160" y="1496880"/>
            <a:ext cx="5111640" cy="340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What is job analys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How do you carry out a 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Types of JA’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Develop a 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Case stu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676520" y="533520"/>
            <a:ext cx="4343400" cy="1447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imes New Roman"/>
              </a:rPr>
              <a:t>Job Analysi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762120" y="2362320"/>
            <a:ext cx="3124080" cy="4114800"/>
          </a:xfrm>
          <a:prstGeom prst="foldedCorner">
            <a:avLst>
              <a:gd name="adj" fmla="val 12500"/>
            </a:avLst>
          </a:prstGeom>
          <a:solidFill>
            <a:srgbClr val="b97c01"/>
          </a:solidFill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ob Description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y of job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st of duti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chine, equipm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d Tools use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ervision give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d receive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orking condition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z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5029200" y="2362320"/>
            <a:ext cx="3733920" cy="4114800"/>
          </a:xfrm>
          <a:prstGeom prst="foldedCorner">
            <a:avLst>
              <a:gd name="adj" fmla="val 12500"/>
            </a:avLst>
          </a:prstGeom>
          <a:solidFill>
            <a:srgbClr val="b97c01"/>
          </a:solidFill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ob Specification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ucation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ining require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erienc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itia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udg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ponsibiliti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kills &amp; Abiliti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otional characteristic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nusual sensory deman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6172200" y="380880"/>
            <a:ext cx="2438280" cy="1600200"/>
          </a:xfrm>
          <a:prstGeom prst="leftArrow">
            <a:avLst>
              <a:gd name="adj1" fmla="val 50000"/>
              <a:gd name="adj2" fmla="val 38093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Job inform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gather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33720" y="18288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cab40"/>
          </a:solidFill>
          <a:ln w="93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5181480" y="18288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cab40"/>
          </a:solidFill>
          <a:ln w="93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Arial"/>
              </a:rPr>
              <a:t>Job Analysis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066680" y="4343400"/>
            <a:ext cx="1828800" cy="14479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erformance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anageme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80880" y="2590920"/>
            <a:ext cx="1828800" cy="144756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 Narrow"/>
              </a:rPr>
              <a:t>Recruitme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 Narrow"/>
              </a:rPr>
              <a:t>&amp; Selectio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124080" y="4724280"/>
            <a:ext cx="1828800" cy="14479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 Narrow"/>
              </a:rPr>
              <a:t>Training &amp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 Narrow"/>
              </a:rPr>
              <a:t>Developme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257800" y="4038480"/>
            <a:ext cx="1828800" cy="14479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Remuneratio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7315200" y="2705040"/>
            <a:ext cx="1828800" cy="14479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 Narrow"/>
              </a:rPr>
              <a:t>Job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 Narrow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2514240" y="1676520"/>
            <a:ext cx="1676520" cy="12952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2904480" y="2289240"/>
            <a:ext cx="1200600" cy="174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4264200" y="2029320"/>
            <a:ext cx="365040" cy="22564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162760" y="1854360"/>
            <a:ext cx="874440" cy="192996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5694840" y="1684440"/>
            <a:ext cx="1488240" cy="15080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Arial"/>
              </a:rPr>
              <a:t>Performing Job Analysis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295280" y="1600200"/>
            <a:ext cx="2514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elect job to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905120" y="1600200"/>
            <a:ext cx="1371600" cy="3049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tep 1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410080" y="1523880"/>
            <a:ext cx="28958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Determine information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to collec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990720" y="3429000"/>
            <a:ext cx="2514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Identify sourc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of dat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5334120" y="3429000"/>
            <a:ext cx="2514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Methods of dat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collec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990720" y="5334120"/>
            <a:ext cx="2514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Evaluate &amp; verify dat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600200" y="3429000"/>
            <a:ext cx="1371600" cy="3049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tep 3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6248520" y="1523880"/>
            <a:ext cx="1371600" cy="3049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tep 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5943600" y="3429000"/>
            <a:ext cx="1371600" cy="3049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tep 4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1523880" y="5334120"/>
            <a:ext cx="1371600" cy="3045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tep 5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5181480" y="5257800"/>
            <a:ext cx="2514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Write job repo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5867280" y="5257800"/>
            <a:ext cx="1371600" cy="3049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Step 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4038480" y="1905120"/>
            <a:ext cx="1143000" cy="533160"/>
          </a:xfrm>
          <a:prstGeom prst="rightArrow">
            <a:avLst>
              <a:gd name="adj1" fmla="val 50000"/>
              <a:gd name="adj2" fmla="val 53596"/>
            </a:avLst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3886200" y="38098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3733920" y="56386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Determining Job Requirement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990720" y="2133720"/>
            <a:ext cx="2971800" cy="114300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What the employee doe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How the employee does it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Why the employee does it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257800" y="2133720"/>
            <a:ext cx="2971800" cy="83808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Determining job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requirement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990720" y="4114800"/>
            <a:ext cx="2971800" cy="83808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Summary statement of the job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990720" y="5638680"/>
            <a:ext cx="2971800" cy="114300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Personal qualifications required: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Skills, education &amp; experienc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Working conditions affecting: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Health, safety, &amp; comfort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257800" y="3886200"/>
            <a:ext cx="2971800" cy="114300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Employee orienta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Employee instruc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Supervision &amp; control disciplinar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Grievance handl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5181480" y="5638680"/>
            <a:ext cx="3429000" cy="114300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Recruitment &amp; selec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Training &amp; development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Job evaluation &amp; wage determina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Health &amp; safety program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1600200" y="1676520"/>
            <a:ext cx="205740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Narrow"/>
              </a:rPr>
              <a:t>Job analysi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600200" y="3657600"/>
            <a:ext cx="205740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Narrow"/>
              </a:rPr>
              <a:t>Job descrip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1600200" y="5181480"/>
            <a:ext cx="2057400" cy="381240"/>
          </a:xfrm>
          <a:prstGeom prst="rect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Narrow"/>
              </a:rPr>
              <a:t>Job spec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1219320" y="3276720"/>
            <a:ext cx="0" cy="53316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1219320" y="4952880"/>
            <a:ext cx="0" cy="5335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4114800" y="2514600"/>
            <a:ext cx="106668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4114800" y="4495680"/>
            <a:ext cx="106668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4114800" y="6248520"/>
            <a:ext cx="106668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AutoShape 18"/>
          <p:cNvSpPr/>
          <p:nvPr/>
        </p:nvSpPr>
        <p:spPr>
          <a:xfrm rot="18967200">
            <a:off x="3657240" y="1142640"/>
            <a:ext cx="1523880" cy="990720"/>
          </a:xfrm>
          <a:prstGeom prst="leftArrow">
            <a:avLst>
              <a:gd name="adj1" fmla="val 50000"/>
              <a:gd name="adj2" fmla="val 38454"/>
            </a:avLst>
          </a:prstGeom>
          <a:solidFill>
            <a:srgbClr val="dddddd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Nature of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AutoShape 20"/>
          <p:cNvSpPr/>
          <p:nvPr/>
        </p:nvSpPr>
        <p:spPr>
          <a:xfrm rot="2112600">
            <a:off x="5638680" y="1142640"/>
            <a:ext cx="1524240" cy="990720"/>
          </a:xfrm>
          <a:prstGeom prst="rightArrow">
            <a:avLst>
              <a:gd name="adj1" fmla="val 50000"/>
              <a:gd name="adj2" fmla="val 38463"/>
            </a:avLst>
          </a:prstGeom>
          <a:solidFill>
            <a:srgbClr val="dddddd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Basis for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Arial"/>
              </a:rPr>
              <a:t>Preparing the Job Description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52280" y="3200400"/>
            <a:ext cx="91440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Job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analys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828800" y="5029200"/>
            <a:ext cx="1676520" cy="7621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Possibl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referenc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828800" y="3048120"/>
            <a:ext cx="1676520" cy="99036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4"/>
                </a:solidFill>
                <a:latin typeface="Arial Narrow"/>
              </a:rPr>
              <a:t>Interview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4"/>
                </a:solidFill>
                <a:latin typeface="Arial Narrow"/>
              </a:rPr>
              <a:t>Questionnair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4"/>
                </a:solidFill>
                <a:latin typeface="Arial Narrow"/>
              </a:rPr>
              <a:t>observati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1905120" y="1676520"/>
            <a:ext cx="1676160" cy="76176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Interview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questionnair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191120" y="1676520"/>
            <a:ext cx="1676160" cy="53316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Superviso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419720" y="5105520"/>
            <a:ext cx="1066680" cy="45720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ASCO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191120" y="2971800"/>
            <a:ext cx="1676160" cy="5335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Employe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191120" y="4114800"/>
            <a:ext cx="1676160" cy="53352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Combine and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Reconcile data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4114800" y="6019920"/>
            <a:ext cx="1752480" cy="53316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4"/>
                </a:solidFill>
                <a:latin typeface="Arial Narrow"/>
              </a:rPr>
              <a:t>Other employer'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4"/>
                </a:solidFill>
                <a:latin typeface="Arial Narrow"/>
              </a:rPr>
              <a:t>description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6553080" y="1600200"/>
            <a:ext cx="1447920" cy="76212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Secur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consensu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553080" y="4114800"/>
            <a:ext cx="1067040" cy="762120"/>
          </a:xfrm>
          <a:prstGeom prst="rect">
            <a:avLst/>
          </a:prstGeom>
          <a:solidFill>
            <a:srgbClr val="ebd1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Tentative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Draf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7238880" y="2819520"/>
            <a:ext cx="1447920" cy="7617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Final Draf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AutoShape 22"/>
          <p:cNvSpPr/>
          <p:nvPr/>
        </p:nvSpPr>
        <p:spPr>
          <a:xfrm>
            <a:off x="1523880" y="1905120"/>
            <a:ext cx="381240" cy="3657600"/>
          </a:xfrm>
          <a:custGeom>
            <a:avLst/>
            <a:gdLst>
              <a:gd name="textAreaLeft" fmla="*/ 111960 w 381240"/>
              <a:gd name="textAreaRight" fmla="*/ 381600 w 381240"/>
              <a:gd name="textAreaTop" fmla="*/ 152280 h 3657600"/>
              <a:gd name="textAreaBottom" fmla="*/ 350532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1523880" y="34290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1219320" y="358128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Line 26"/>
          <p:cNvSpPr/>
          <p:nvPr/>
        </p:nvSpPr>
        <p:spPr>
          <a:xfrm>
            <a:off x="3581280" y="5334120"/>
            <a:ext cx="8384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Line 27"/>
          <p:cNvSpPr/>
          <p:nvPr/>
        </p:nvSpPr>
        <p:spPr>
          <a:xfrm>
            <a:off x="3657600" y="182880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581280" y="3276720"/>
            <a:ext cx="6098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601992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Line 30"/>
          <p:cNvSpPr/>
          <p:nvPr/>
        </p:nvSpPr>
        <p:spPr>
          <a:xfrm>
            <a:off x="6172200" y="1828800"/>
            <a:ext cx="0" cy="1219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Line 31"/>
          <p:cNvSpPr/>
          <p:nvPr/>
        </p:nvSpPr>
        <p:spPr>
          <a:xfrm>
            <a:off x="5105520" y="34290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6248520" y="5257800"/>
            <a:ext cx="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Line 33"/>
          <p:cNvSpPr/>
          <p:nvPr/>
        </p:nvSpPr>
        <p:spPr>
          <a:xfrm>
            <a:off x="5562720" y="5257800"/>
            <a:ext cx="6858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Line 34"/>
          <p:cNvSpPr/>
          <p:nvPr/>
        </p:nvSpPr>
        <p:spPr>
          <a:xfrm flipH="1">
            <a:off x="5943240" y="61722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Line 35"/>
          <p:cNvSpPr/>
          <p:nvPr/>
        </p:nvSpPr>
        <p:spPr>
          <a:xfrm>
            <a:off x="5867280" y="18288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Line 36"/>
          <p:cNvSpPr/>
          <p:nvPr/>
        </p:nvSpPr>
        <p:spPr>
          <a:xfrm>
            <a:off x="5943600" y="304812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6172200" y="2057400"/>
            <a:ext cx="3808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Line 38"/>
          <p:cNvSpPr/>
          <p:nvPr/>
        </p:nvSpPr>
        <p:spPr>
          <a:xfrm flipV="1">
            <a:off x="7162920" y="4876920"/>
            <a:ext cx="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6248520" y="571500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Line 40"/>
          <p:cNvSpPr/>
          <p:nvPr/>
        </p:nvSpPr>
        <p:spPr>
          <a:xfrm flipV="1">
            <a:off x="6781680" y="2362320"/>
            <a:ext cx="0" cy="1676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8381880" y="19810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8153280" y="19810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7" name="Line 44"/>
          <p:cNvSpPr/>
          <p:nvPr/>
        </p:nvSpPr>
        <p:spPr>
          <a:xfrm>
            <a:off x="3809880" y="533412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Line 45"/>
          <p:cNvSpPr/>
          <p:nvPr/>
        </p:nvSpPr>
        <p:spPr>
          <a:xfrm>
            <a:off x="3809880" y="64008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04:58:40Z</dcterms:created>
  <dc:creator>John McDonald</dc:creator>
  <dc:description/>
  <dc:language>en-US</dc:language>
  <cp:lastModifiedBy>John</cp:lastModifiedBy>
  <dcterms:modified xsi:type="dcterms:W3CDTF">2010-07-24T23:46:28Z</dcterms:modified>
  <cp:revision>6</cp:revision>
  <dc:subject/>
  <dc:title>PowerPoint Presentation</dc:title>
</cp:coreProperties>
</file>